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64F9-FC8F-4DFE-9901-0607EC95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F831-9DB1-434E-80AA-FC19EFEB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3AC1-ECF0-414A-A8B2-0DAA7778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A6E-FAA5-4EF8-B5B0-F6D764E6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1597-B038-414B-8002-BB53C6E2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788A-D46D-4A59-970D-28E4A937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0327-09DD-4CE4-9E15-960F5CFB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7F99-70F0-474F-A767-BC9F4894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E97C-A099-47A7-8710-5EAC701B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A181-076D-4F8A-8CB1-51FD7133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0D50-3500-46D0-AD16-038B4239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7305-F6E3-42F8-BC6A-7F0A8F35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6B67-DBB0-49A6-A071-3D8F9F65994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קלוז על שי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השמש עול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56000" y="-762120"/>
            <a:ext cx="6048360" cy="10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914040" bIns="91404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שמש עולה _____ הדב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כמה צלולה שירתו של מחר חד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רוח סורק _____ ברושי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ילד צוחק כי נולד לשי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עצי _____ בצל האור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ריחות שבעה _____ ברו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David"/>
              </a:rPr>
              <a:t>_____ הרדוף שקמה ורות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מילים ______ כל כ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מילים שלא אשכ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עצי שקד בלובן של פריח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וכביש _____ בה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מוביל אל הזריח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עצי שקד בדרך אל עיר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" spc="-1" strike="noStrike">
                <a:solidFill>
                  <a:srgbClr val="000000"/>
                </a:solidFill>
                <a:latin typeface="Arial"/>
                <a:ea typeface="David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" spc="-1" strike="noStrike">
                <a:solidFill>
                  <a:srgbClr val="000000"/>
                </a:solidFill>
                <a:latin typeface="Arial"/>
                <a:ea typeface="David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52280" y="5946120"/>
            <a:ext cx="20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0360" y="907920"/>
            <a:ext cx="4067280" cy="63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שמסתתרת לה בה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David"/>
              </a:rPr>
              <a:t>                     שמש עולה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עצי שקד בצל האור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ובושם _____ ברו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משב צונן של טרם בוק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ועצב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David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והד כל השירי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עצי שקד _____ אגד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עירי בתוך הה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לי _____ סוד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עצי שקד לך הינומת כל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וכל _____ הם של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David"/>
              </a:rPr>
              <a:t>                     שמש עולה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7960" y="522360"/>
            <a:ext cx="59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               ביצוע: יהורם גאו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               מילים ולחן: מישל פוג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260280"/>
            <a:ext cx="251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64000" y="260280"/>
            <a:ext cx="252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6000" spc="-1" strike="noStrike">
                <a:solidFill>
                  <a:srgbClr val="000000"/>
                </a:solidFill>
                <a:latin typeface="Arial"/>
              </a:rPr>
              <a:t>השמש עול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333360"/>
            <a:ext cx="331308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00"/>
                </a:solidFill>
                <a:latin typeface="Arial"/>
              </a:rPr>
              <a:t>חצו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333360"/>
            <a:ext cx="331308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00"/>
                </a:solidFill>
                <a:latin typeface="Arial"/>
              </a:rPr>
              <a:t>שקד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2565360"/>
            <a:ext cx="331308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00"/>
                </a:solidFill>
                <a:latin typeface="Arial"/>
              </a:rPr>
              <a:t>רקפו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4797360"/>
            <a:ext cx="331308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</a:rPr>
              <a:t>ממתיק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565360"/>
            <a:ext cx="331308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</a:rPr>
              <a:t>מחלפו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4797360"/>
            <a:ext cx="331308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00"/>
                </a:solidFill>
                <a:latin typeface="Arial"/>
              </a:rPr>
              <a:t>קסומו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333360"/>
            <a:ext cx="331308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00"/>
                </a:solidFill>
                <a:latin typeface="Arial"/>
              </a:rPr>
              <a:t>ההרי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333360"/>
            <a:ext cx="331308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000000"/>
                </a:solidFill>
                <a:latin typeface="Arial"/>
              </a:rPr>
              <a:t>בלוב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80000" y="2565360"/>
            <a:ext cx="331308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000000"/>
                </a:solidFill>
                <a:latin typeface="Arial"/>
              </a:rPr>
              <a:t>בצבע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1280" y="4797360"/>
            <a:ext cx="331308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000000"/>
                </a:solidFill>
                <a:latin typeface="Arial"/>
              </a:rPr>
              <a:t>מינים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565360"/>
            <a:ext cx="331308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000000"/>
                </a:solidFill>
                <a:latin typeface="Arial"/>
              </a:rPr>
              <a:t>שיר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4797360"/>
            <a:ext cx="331308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700" spc="-1" strike="noStrike">
                <a:solidFill>
                  <a:srgbClr val="000000"/>
                </a:solidFill>
                <a:latin typeface="Arial"/>
              </a:rPr>
              <a:t>שיחי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02:55:32Z</dcterms:created>
  <dc:creator>נעם חיים</dc:creator>
  <dc:description/>
  <dc:language>en-US</dc:language>
  <cp:lastModifiedBy>HNU3057</cp:lastModifiedBy>
  <dcterms:modified xsi:type="dcterms:W3CDTF">2009-03-09T13:18:08Z</dcterms:modified>
  <cp:revision>6</cp:revision>
  <dc:subject/>
  <dc:title>שקופית 1</dc:title>
</cp:coreProperties>
</file>