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F7FD4-8E28-4586-ABA8-A0ABC2A5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B11D-FEDE-4795-927E-D07FA6BC7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71FBF-733B-4CEA-A028-6381204C4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4118F-B62B-44A7-A030-9C87BE966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8653-8511-464D-AFBB-9F626FB5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AEAC-8C4B-4DD4-BDAD-760354F43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A5577-CD19-45C4-AD97-25B7E31D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CAAA-53AE-44EC-AB68-D742BB31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52C70-07D3-455C-97DC-6DD3D444E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CC5F4-047A-4032-921B-462BA43B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750A-2A8C-479D-A678-AB78B23D4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FBD8-5081-4D82-9FC5-AC6CC3921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F628-79AA-4043-88C7-B517AD33C528}"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משחק מסלול</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הלכות ברכת החמ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1562040" y="1778040"/>
            <a:ext cx="1828800" cy="1828800"/>
          </a:xfrm>
          <a:prstGeom prst="rect">
            <a:avLst/>
          </a:prstGeom>
          <a:ln w="0">
            <a:noFill/>
          </a:ln>
        </p:spPr>
      </p:pic>
      <p:pic>
        <p:nvPicPr>
          <p:cNvPr id="45" name="" descr=""/>
          <p:cNvPicPr/>
          <p:nvPr/>
        </p:nvPicPr>
        <p:blipFill>
          <a:blip r:embed="rId2"/>
          <a:stretch/>
        </p:blipFill>
        <p:spPr>
          <a:xfrm>
            <a:off x="5753160" y="1778040"/>
            <a:ext cx="1828800" cy="1828800"/>
          </a:xfrm>
          <a:prstGeom prst="rect">
            <a:avLst/>
          </a:prstGeom>
          <a:ln w="0">
            <a:noFill/>
          </a:ln>
        </p:spPr>
      </p:pic>
      <p:pic>
        <p:nvPicPr>
          <p:cNvPr id="46" name="" descr=""/>
          <p:cNvPicPr/>
          <p:nvPr/>
        </p:nvPicPr>
        <p:blipFill>
          <a:blip r:embed="rId3"/>
          <a:stretch/>
        </p:blipFill>
        <p:spPr>
          <a:xfrm>
            <a:off x="1562040" y="4118040"/>
            <a:ext cx="1828800" cy="1828800"/>
          </a:xfrm>
          <a:prstGeom prst="rect">
            <a:avLst/>
          </a:prstGeom>
          <a:ln w="0">
            <a:noFill/>
          </a:ln>
        </p:spPr>
      </p:pic>
      <p:pic>
        <p:nvPicPr>
          <p:cNvPr id="47" name="" descr=""/>
          <p:cNvPicPr/>
          <p:nvPr/>
        </p:nvPicPr>
        <p:blipFill>
          <a:blip r:embed="rId4"/>
          <a:stretch/>
        </p:blipFill>
        <p:spPr>
          <a:xfrm>
            <a:off x="0" y="352440"/>
            <a:ext cx="9144000" cy="6245280"/>
          </a:xfrm>
          <a:prstGeom prst="rect">
            <a:avLst/>
          </a:prstGeom>
          <a:ln w="0">
            <a:noFill/>
          </a:ln>
        </p:spPr>
      </p:pic>
      <p:sp>
        <p:nvSpPr>
          <p:cNvPr id="48" name=""/>
          <p:cNvSpPr/>
          <p:nvPr/>
        </p:nvSpPr>
        <p:spPr>
          <a:xfrm>
            <a:off x="-414360" y="-108000"/>
            <a:ext cx="3645000" cy="2641680"/>
          </a:xfrm>
          <a:custGeom>
            <a:avLst/>
            <a:gdLst/>
            <a:ahLst/>
            <a:rect l="l" t="t" r="r" b="b"/>
            <a:pathLst>
              <a:path w="2296" h="1664">
                <a:moveTo>
                  <a:pt x="467" y="1604"/>
                </a:moveTo>
                <a:cubicBezTo>
                  <a:pt x="589" y="1664"/>
                  <a:pt x="724" y="1616"/>
                  <a:pt x="851" y="1659"/>
                </a:cubicBezTo>
                <a:cubicBezTo>
                  <a:pt x="1003" y="1642"/>
                  <a:pt x="935" y="1658"/>
                  <a:pt x="1056" y="1618"/>
                </a:cubicBezTo>
                <a:cubicBezTo>
                  <a:pt x="1161" y="1584"/>
                  <a:pt x="1276" y="1609"/>
                  <a:pt x="1386" y="1604"/>
                </a:cubicBezTo>
                <a:cubicBezTo>
                  <a:pt x="1447" y="1564"/>
                  <a:pt x="1494" y="1503"/>
                  <a:pt x="1564" y="1481"/>
                </a:cubicBezTo>
                <a:cubicBezTo>
                  <a:pt x="1628" y="1414"/>
                  <a:pt x="1548" y="1489"/>
                  <a:pt x="1632" y="1439"/>
                </a:cubicBezTo>
                <a:cubicBezTo>
                  <a:pt x="1643" y="1432"/>
                  <a:pt x="1650" y="1420"/>
                  <a:pt x="1660" y="1412"/>
                </a:cubicBezTo>
                <a:cubicBezTo>
                  <a:pt x="1673" y="1402"/>
                  <a:pt x="1755" y="1348"/>
                  <a:pt x="1783" y="1330"/>
                </a:cubicBezTo>
                <a:cubicBezTo>
                  <a:pt x="1795" y="1322"/>
                  <a:pt x="1811" y="1322"/>
                  <a:pt x="1824" y="1316"/>
                </a:cubicBezTo>
                <a:cubicBezTo>
                  <a:pt x="1861" y="1299"/>
                  <a:pt x="1897" y="1279"/>
                  <a:pt x="1934" y="1261"/>
                </a:cubicBezTo>
                <a:lnTo>
                  <a:pt x="1934" y="1261"/>
                </a:lnTo>
                <a:cubicBezTo>
                  <a:pt x="1969" y="1227"/>
                  <a:pt x="1998" y="1208"/>
                  <a:pt x="2044" y="1193"/>
                </a:cubicBezTo>
                <a:cubicBezTo>
                  <a:pt x="2079" y="1157"/>
                  <a:pt x="2104" y="1117"/>
                  <a:pt x="2140" y="1083"/>
                </a:cubicBezTo>
                <a:cubicBezTo>
                  <a:pt x="2156" y="1035"/>
                  <a:pt x="2186" y="1017"/>
                  <a:pt x="2208" y="973"/>
                </a:cubicBezTo>
                <a:cubicBezTo>
                  <a:pt x="2229" y="931"/>
                  <a:pt x="2235" y="880"/>
                  <a:pt x="2250" y="836"/>
                </a:cubicBezTo>
                <a:cubicBezTo>
                  <a:pt x="2241" y="608"/>
                  <a:pt x="2296" y="477"/>
                  <a:pt x="2126" y="356"/>
                </a:cubicBezTo>
                <a:cubicBezTo>
                  <a:pt x="2050" y="302"/>
                  <a:pt x="2098" y="322"/>
                  <a:pt x="2016" y="301"/>
                </a:cubicBezTo>
                <a:cubicBezTo>
                  <a:pt x="1943" y="245"/>
                  <a:pt x="1859" y="214"/>
                  <a:pt x="1770" y="191"/>
                </a:cubicBezTo>
                <a:cubicBezTo>
                  <a:pt x="1619" y="94"/>
                  <a:pt x="1351" y="55"/>
                  <a:pt x="1180" y="41"/>
                </a:cubicBezTo>
                <a:cubicBezTo>
                  <a:pt x="1020" y="0"/>
                  <a:pt x="877" y="29"/>
                  <a:pt x="714" y="41"/>
                </a:cubicBezTo>
                <a:cubicBezTo>
                  <a:pt x="705" y="44"/>
                  <a:pt x="640" y="63"/>
                  <a:pt x="631" y="68"/>
                </a:cubicBezTo>
                <a:cubicBezTo>
                  <a:pt x="582" y="93"/>
                  <a:pt x="576" y="119"/>
                  <a:pt x="522" y="137"/>
                </a:cubicBezTo>
                <a:cubicBezTo>
                  <a:pt x="513" y="146"/>
                  <a:pt x="504" y="156"/>
                  <a:pt x="494" y="164"/>
                </a:cubicBezTo>
                <a:cubicBezTo>
                  <a:pt x="481" y="174"/>
                  <a:pt x="465" y="180"/>
                  <a:pt x="453" y="191"/>
                </a:cubicBezTo>
                <a:cubicBezTo>
                  <a:pt x="392" y="243"/>
                  <a:pt x="353" y="317"/>
                  <a:pt x="275" y="342"/>
                </a:cubicBezTo>
                <a:cubicBezTo>
                  <a:pt x="266" y="356"/>
                  <a:pt x="255" y="369"/>
                  <a:pt x="247" y="383"/>
                </a:cubicBezTo>
                <a:cubicBezTo>
                  <a:pt x="237" y="401"/>
                  <a:pt x="231" y="421"/>
                  <a:pt x="220" y="438"/>
                </a:cubicBezTo>
                <a:cubicBezTo>
                  <a:pt x="166" y="519"/>
                  <a:pt x="217" y="404"/>
                  <a:pt x="165" y="507"/>
                </a:cubicBezTo>
                <a:cubicBezTo>
                  <a:pt x="148" y="542"/>
                  <a:pt x="141" y="582"/>
                  <a:pt x="124" y="617"/>
                </a:cubicBezTo>
                <a:cubicBezTo>
                  <a:pt x="79" y="708"/>
                  <a:pt x="111" y="602"/>
                  <a:pt x="69" y="713"/>
                </a:cubicBezTo>
                <a:cubicBezTo>
                  <a:pt x="62" y="730"/>
                  <a:pt x="63" y="750"/>
                  <a:pt x="55" y="767"/>
                </a:cubicBezTo>
                <a:cubicBezTo>
                  <a:pt x="42" y="793"/>
                  <a:pt x="17" y="812"/>
                  <a:pt x="0" y="836"/>
                </a:cubicBezTo>
                <a:cubicBezTo>
                  <a:pt x="5" y="937"/>
                  <a:pt x="3" y="1038"/>
                  <a:pt x="14" y="1138"/>
                </a:cubicBezTo>
                <a:cubicBezTo>
                  <a:pt x="19" y="1184"/>
                  <a:pt x="93" y="1321"/>
                  <a:pt x="138" y="1343"/>
                </a:cubicBezTo>
                <a:cubicBezTo>
                  <a:pt x="177" y="1363"/>
                  <a:pt x="244" y="1384"/>
                  <a:pt x="288" y="1398"/>
                </a:cubicBezTo>
                <a:cubicBezTo>
                  <a:pt x="352" y="1441"/>
                  <a:pt x="420" y="1448"/>
                  <a:pt x="494" y="1467"/>
                </a:cubicBezTo>
                <a:cubicBezTo>
                  <a:pt x="489" y="1481"/>
                  <a:pt x="490" y="1498"/>
                  <a:pt x="480" y="1508"/>
                </a:cubicBezTo>
                <a:cubicBezTo>
                  <a:pt x="454" y="1534"/>
                  <a:pt x="400" y="1500"/>
                  <a:pt x="426" y="1577"/>
                </a:cubicBezTo>
                <a:cubicBezTo>
                  <a:pt x="431" y="1592"/>
                  <a:pt x="453" y="1595"/>
                  <a:pt x="467" y="160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556000" y="476280"/>
            <a:ext cx="720720" cy="720720"/>
          </a:xfrm>
          <a:prstGeom prst="ellipse">
            <a:avLst/>
          </a:prstGeom>
          <a:solidFill>
            <a:srgbClr val="c5e5b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התחלה</a:t>
            </a:r>
            <a:endParaRPr b="0" lang="en-US" sz="1800" spc="-1" strike="noStrike">
              <a:solidFill>
                <a:srgbClr val="000000"/>
              </a:solidFill>
              <a:latin typeface="Arial"/>
            </a:endParaRPr>
          </a:p>
        </p:txBody>
      </p:sp>
      <p:sp>
        <p:nvSpPr>
          <p:cNvPr id="50" name=""/>
          <p:cNvSpPr/>
          <p:nvPr/>
        </p:nvSpPr>
        <p:spPr>
          <a:xfrm>
            <a:off x="755640" y="1773360"/>
            <a:ext cx="720720" cy="720720"/>
          </a:xfrm>
          <a:prstGeom prst="ellipse">
            <a:avLst/>
          </a:prstGeom>
          <a:solidFill>
            <a:srgbClr val="c5e5b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סיום</a:t>
            </a:r>
            <a:endParaRPr b="0" lang="en-US" sz="1800" spc="-1" strike="noStrike">
              <a:solidFill>
                <a:srgbClr val="000000"/>
              </a:solidFill>
              <a:latin typeface="Arial"/>
            </a:endParaRPr>
          </a:p>
        </p:txBody>
      </p:sp>
      <p:sp>
        <p:nvSpPr>
          <p:cNvPr id="51" name=""/>
          <p:cNvSpPr/>
          <p:nvPr/>
        </p:nvSpPr>
        <p:spPr>
          <a:xfrm>
            <a:off x="6300720" y="5516640"/>
            <a:ext cx="2016360" cy="360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19920" y="45720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3" name=""/>
          <p:cNvSpPr/>
          <p:nvPr/>
        </p:nvSpPr>
        <p:spPr>
          <a:xfrm>
            <a:off x="684360" y="5516640"/>
            <a:ext cx="358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4" name=""/>
          <p:cNvSpPr/>
          <p:nvPr/>
        </p:nvSpPr>
        <p:spPr>
          <a:xfrm>
            <a:off x="4343400" y="594360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
          <p:cNvSpPr/>
          <p:nvPr/>
        </p:nvSpPr>
        <p:spPr>
          <a:xfrm>
            <a:off x="8458200" y="586728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6" name=""/>
          <p:cNvSpPr/>
          <p:nvPr/>
        </p:nvSpPr>
        <p:spPr>
          <a:xfrm>
            <a:off x="4356000" y="1197000"/>
            <a:ext cx="3888000" cy="16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534520" y="306216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3048120" y="19000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2708280"/>
            <a:ext cx="3585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60" name="" descr=""/>
          <p:cNvPicPr/>
          <p:nvPr/>
        </p:nvPicPr>
        <p:blipFill>
          <a:blip r:embed="rId5"/>
          <a:stretch/>
        </p:blipFill>
        <p:spPr>
          <a:xfrm>
            <a:off x="4284720" y="549360"/>
            <a:ext cx="417600" cy="417600"/>
          </a:xfrm>
          <a:prstGeom prst="rect">
            <a:avLst/>
          </a:prstGeom>
          <a:ln w="0">
            <a:noFill/>
          </a:ln>
        </p:spPr>
      </p:pic>
      <p:pic>
        <p:nvPicPr>
          <p:cNvPr id="61" name="" descr=""/>
          <p:cNvPicPr/>
          <p:nvPr/>
        </p:nvPicPr>
        <p:blipFill>
          <a:blip r:embed="rId6"/>
          <a:stretch/>
        </p:blipFill>
        <p:spPr>
          <a:xfrm>
            <a:off x="395280" y="4235400"/>
            <a:ext cx="417600" cy="417600"/>
          </a:xfrm>
          <a:prstGeom prst="rect">
            <a:avLst/>
          </a:prstGeom>
          <a:ln w="0">
            <a:noFill/>
          </a:ln>
        </p:spPr>
      </p:pic>
      <p:pic>
        <p:nvPicPr>
          <p:cNvPr id="62" name="" descr=""/>
          <p:cNvPicPr/>
          <p:nvPr/>
        </p:nvPicPr>
        <p:blipFill>
          <a:blip r:embed="rId7"/>
          <a:stretch/>
        </p:blipFill>
        <p:spPr>
          <a:xfrm>
            <a:off x="2556000" y="5964120"/>
            <a:ext cx="417240" cy="417600"/>
          </a:xfrm>
          <a:prstGeom prst="rect">
            <a:avLst/>
          </a:prstGeom>
          <a:ln w="0">
            <a:noFill/>
          </a:ln>
        </p:spPr>
      </p:pic>
      <p:pic>
        <p:nvPicPr>
          <p:cNvPr id="63" name="" descr=""/>
          <p:cNvPicPr/>
          <p:nvPr/>
        </p:nvPicPr>
        <p:blipFill>
          <a:blip r:embed="rId8"/>
          <a:stretch/>
        </p:blipFill>
        <p:spPr>
          <a:xfrm>
            <a:off x="6443640" y="6093000"/>
            <a:ext cx="417600" cy="417240"/>
          </a:xfrm>
          <a:prstGeom prst="rect">
            <a:avLst/>
          </a:prstGeom>
          <a:ln w="0">
            <a:noFill/>
          </a:ln>
        </p:spPr>
      </p:pic>
      <p:pic>
        <p:nvPicPr>
          <p:cNvPr id="64" name="" descr=""/>
          <p:cNvPicPr/>
          <p:nvPr/>
        </p:nvPicPr>
        <p:blipFill>
          <a:blip r:embed="rId9"/>
          <a:stretch/>
        </p:blipFill>
        <p:spPr>
          <a:xfrm>
            <a:off x="8459640" y="4724280"/>
            <a:ext cx="417600" cy="417600"/>
          </a:xfrm>
          <a:prstGeom prst="rect">
            <a:avLst/>
          </a:prstGeom>
          <a:ln w="0">
            <a:noFill/>
          </a:ln>
        </p:spPr>
      </p:pic>
      <p:pic>
        <p:nvPicPr>
          <p:cNvPr id="65" name="" descr=""/>
          <p:cNvPicPr/>
          <p:nvPr/>
        </p:nvPicPr>
        <p:blipFill>
          <a:blip r:embed="rId10"/>
          <a:stretch/>
        </p:blipFill>
        <p:spPr>
          <a:xfrm>
            <a:off x="8459640" y="907920"/>
            <a:ext cx="417600" cy="417600"/>
          </a:xfrm>
          <a:prstGeom prst="rect">
            <a:avLst/>
          </a:prstGeom>
          <a:ln w="0">
            <a:noFill/>
          </a:ln>
        </p:spPr>
      </p:pic>
      <p:pic>
        <p:nvPicPr>
          <p:cNvPr id="66" name="" descr=""/>
          <p:cNvPicPr/>
          <p:nvPr/>
        </p:nvPicPr>
        <p:blipFill>
          <a:blip r:embed="rId11"/>
          <a:stretch/>
        </p:blipFill>
        <p:spPr>
          <a:xfrm>
            <a:off x="0" y="0"/>
            <a:ext cx="1828800" cy="1828800"/>
          </a:xfrm>
          <a:prstGeom prst="rect">
            <a:avLst/>
          </a:prstGeom>
          <a:ln w="0">
            <a:noFill/>
          </a:ln>
        </p:spPr>
      </p:pic>
      <p:sp>
        <p:nvSpPr>
          <p:cNvPr id="67" name=""/>
          <p:cNvSpPr txBox="1"/>
          <p:nvPr/>
        </p:nvSpPr>
        <p:spPr>
          <a:xfrm>
            <a:off x="1763640" y="2133720"/>
            <a:ext cx="5977080" cy="23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הלכות ברכת החמה</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3328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א. נוסח הברכה - ברוך אתה ה' אלקינו מלך העולם, עושה מעשה בראשית:</a:t>
            </a:r>
            <a:br>
              <a:rPr sz="1800"/>
            </a:br>
            <a:r>
              <a:rPr b="0" lang="he-IL" sz="1800" spc="-1" strike="noStrike">
                <a:solidFill>
                  <a:srgbClr val="000000"/>
                </a:solidFill>
                <a:latin typeface="Arial"/>
              </a:rPr>
              <a:t>ב.  מברכין אותה לאחר שהחמה עלתה ונראית בכל עיגולה ולא בתחילת הנץ שלה.</a:t>
            </a:r>
            <a:br>
              <a:rPr sz="1800"/>
            </a:br>
            <a:r>
              <a:rPr b="0" lang="he-IL" sz="1800" spc="-1" strike="noStrike">
                <a:solidFill>
                  <a:srgbClr val="000000"/>
                </a:solidFill>
                <a:latin typeface="Arial"/>
              </a:rPr>
              <a:t>ג. זמנה עד שלש שעות ביום. ובדיעבד - עד חצות היום. ויש חולקים ואומרים עד שלש שעות דוקא. לאחר מכן, אומר ברוך עושה מעשה בראשית ואינו מזכיר שם ומלכות (ה' אלקינו מלך העולם) בברכה. </a:t>
            </a:r>
            <a:br>
              <a:rPr sz="1800"/>
            </a:br>
            <a:r>
              <a:rPr b="0" lang="he-IL" sz="1800" spc="-1" strike="noStrike">
                <a:solidFill>
                  <a:srgbClr val="000000"/>
                </a:solidFill>
                <a:latin typeface="Arial"/>
              </a:rPr>
              <a:t>ד. אם מכוסה השמש בעננים - מחלוקת בין הפוסקים אם מברכים או לא מברכים. וכתב החתם סופר שאם נראה רושמה מבין העננים, מברך בשם ומלכות, אבל כשאינה נראית כלל, נראה שלא יברך.</a:t>
            </a:r>
            <a:br>
              <a:rPr sz="1800"/>
            </a:br>
            <a:r>
              <a:rPr b="0" lang="he-IL" sz="1800" spc="-1" strike="noStrike">
                <a:solidFill>
                  <a:srgbClr val="000000"/>
                </a:solidFill>
                <a:latin typeface="Arial"/>
              </a:rPr>
              <a:t>ה. נשים אינן מברכות ברכה זו. ויש שכתב הטעם, לפי שמצינו בימי ירמיהו שהיו הנשים מקטרות למלכת שמים, שמא יאמרו אף עתה הן מברכות לחמה.</a:t>
            </a:r>
            <a:br>
              <a:rPr sz="1800"/>
            </a:br>
            <a:r>
              <a:rPr b="0" lang="he-IL" sz="1800" spc="-1" strike="noStrike">
                <a:solidFill>
                  <a:srgbClr val="000000"/>
                </a:solidFill>
                <a:latin typeface="Arial"/>
              </a:rPr>
              <a:t>ו. מהדרין לברך ברכה זו ברוב עם, אבל אם חושש שהחמה תתכסה בעננים עד שימצא ציבור מברכין, מברך ביחידי. נהוג שכאשר ברכת החמה חלה בערב פסח, י"ד בניסן ה'תשס"ט,  מקהילים את הציבור לאמירת הברכה (היות ובציבור עדיף מביחיד), אך לא עושים עצרות גדולות לעניין, היות שהזמן עד לביעור החמץ קצר ודחוק, והציבור עלול להיכשל באיסור חמץ.</a:t>
            </a:r>
            <a:br>
              <a:rPr sz="1800"/>
            </a:br>
            <a:r>
              <a:rPr b="0" lang="he-IL" sz="1800" spc="-1" strike="noStrike">
                <a:solidFill>
                  <a:srgbClr val="000000"/>
                </a:solidFill>
                <a:latin typeface="Arial"/>
              </a:rPr>
              <a:t>ז. נוהגין שמכריזין מבערב להשכים בבֹּקר לתפילת הותיקין (עם הנץ החמה) ולברכת החמה, וכשגומרין תפילת שחרית בהשכמה כותיקין יוצא כל הקהל יחדיו ומברכין ברכה זו בשמחה וברוב עם. יש שכתב שמנהג אשכנז לאומרה מיד אחר התפילה בלחש. ויש שכתב שמנהג הספרדים </a:t>
            </a:r>
            <a:br>
              <a:rPr sz="1800"/>
            </a:br>
            <a:r>
              <a:rPr b="0" lang="he-IL" sz="1800" spc="-1" strike="noStrike">
                <a:solidFill>
                  <a:srgbClr val="000000"/>
                </a:solidFill>
                <a:latin typeface="Arial"/>
              </a:rPr>
              <a:t>שמיד אחרי "קדיש תתקבל" אומרים את המזמורים והברכה, ואחרי הברכה חוזרים לגמור את התפילה ומשלימים את סדר ברכת חמה באמירת "עלינו לשבח" שבתפילה.</a:t>
            </a:r>
            <a:br>
              <a:rPr sz="1800"/>
            </a:br>
            <a:r>
              <a:rPr b="0" lang="he-IL" sz="1800" spc="-1" strike="noStrike">
                <a:solidFill>
                  <a:srgbClr val="000000"/>
                </a:solidFill>
                <a:latin typeface="Arial"/>
              </a:rPr>
              <a:t>ח. מוסיפין לברכה זו מזמורים לפניה ופזמונים לאחריה.</a:t>
            </a:r>
            <a:br>
              <a:rPr sz="1800"/>
            </a:br>
            <a:r>
              <a:rPr b="0" lang="he-IL" sz="1800" spc="-1" strike="noStrike">
                <a:solidFill>
                  <a:srgbClr val="000000"/>
                </a:solidFill>
                <a:latin typeface="Arial"/>
              </a:rPr>
              <a:t>ט. ציור של שמש: הרמב"ם והשו"ע (יורה דעה רמא,ד) מקילים רק בצורת אדם ולא בשמש וירח, והרמ"א מקל רק אם מדובר במשהו השייך לרבים לציבור שאין חשד שזה מיועד לע"ז. </a:t>
            </a:r>
            <a:br>
              <a:rPr sz="1800"/>
            </a:br>
            <a:r>
              <a:rPr b="0" lang="he-IL" sz="1800" spc="-1" strike="noStrike">
                <a:solidFill>
                  <a:srgbClr val="000000"/>
                </a:solidFill>
                <a:latin typeface="Arial"/>
              </a:rPr>
              <a:t>כאשר הציור לא מתיימר לדייק אלא הוא הומוריסטי וכדומה או שזה כלל לא דומה כמו שעושים הילדים אז מותר (אגרות משה ח"ה סימן ט), אך צריך להקפיד שלא לנסות ולצייר באופן מדוייק את השמש והירח והכוכבי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מה מברכ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כאשר רוא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א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השמש זורחת?</a:t>
            </a:r>
            <a:endParaRPr b="0" lang="en-US" sz="3200" spc="-1" strike="noStrike">
              <a:solidFill>
                <a:srgbClr val="000000"/>
              </a:solidFill>
              <a:latin typeface="Arial"/>
            </a:endParaRPr>
          </a:p>
        </p:txBody>
      </p:sp>
      <p:sp>
        <p:nvSpPr>
          <p:cNvPr id="70"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האם נש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מברכות א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ברכת החמה?</a:t>
            </a:r>
            <a:endParaRPr b="0" lang="en-US" sz="3200" spc="-1" strike="noStrike">
              <a:solidFill>
                <a:srgbClr val="000000"/>
              </a:solidFill>
              <a:latin typeface="Arial"/>
            </a:endParaRPr>
          </a:p>
        </p:txBody>
      </p:sp>
      <p:sp>
        <p:nvSpPr>
          <p:cNvPr id="71"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מה זמנה</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של ברכ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החמה?</a:t>
            </a:r>
            <a:endParaRPr b="0" lang="en-US" sz="3200" spc="-1" strike="noStrike">
              <a:solidFill>
                <a:srgbClr val="000000"/>
              </a:solidFill>
              <a:latin typeface="Arial"/>
            </a:endParaRPr>
          </a:p>
        </p:txBody>
      </p:sp>
      <p:sp>
        <p:nvSpPr>
          <p:cNvPr id="72"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באיזה מצב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יש מחלוק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עם מברכים א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ברכת החמה</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או לא?</a:t>
            </a:r>
            <a:endParaRPr b="0" lang="en-US" sz="3200" spc="-1" strike="noStrike">
              <a:solidFill>
                <a:srgbClr val="000000"/>
              </a:solidFill>
              <a:latin typeface="Arial"/>
            </a:endParaRPr>
          </a:p>
        </p:txBody>
      </p:sp>
      <p:sp>
        <p:nvSpPr>
          <p:cNvPr id="73"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מה מוסיפ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לברכ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החמה?</a:t>
            </a:r>
            <a:endParaRPr b="0" lang="en-US" sz="3200" spc="-1" strike="noStrike">
              <a:solidFill>
                <a:srgbClr val="000000"/>
              </a:solidFill>
              <a:latin typeface="Arial"/>
            </a:endParaRPr>
          </a:p>
        </p:txBody>
      </p:sp>
      <p:sp>
        <p:nvSpPr>
          <p:cNvPr id="74"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איך מברכ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כאשר עבר</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זמן ברכ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החמ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חכה</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תו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אחד !!!</a:t>
            </a:r>
            <a:endParaRPr b="0" lang="en-US" sz="5400" spc="-1" strike="noStrike">
              <a:solidFill>
                <a:srgbClr val="000000"/>
              </a:solidFill>
              <a:latin typeface="Arial"/>
            </a:endParaRPr>
          </a:p>
        </p:txBody>
      </p:sp>
      <p:sp>
        <p:nvSpPr>
          <p:cNvPr id="76"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התקדם</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שלש</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צעדים!!!</a:t>
            </a:r>
            <a:endParaRPr b="0" lang="en-US" sz="5400" spc="-1" strike="noStrike">
              <a:solidFill>
                <a:srgbClr val="000000"/>
              </a:solidFill>
              <a:latin typeface="Arial"/>
            </a:endParaRPr>
          </a:p>
        </p:txBody>
      </p:sp>
      <p:sp>
        <p:nvSpPr>
          <p:cNvPr id="77"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חזו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צעד</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אחד!!!</a:t>
            </a:r>
            <a:endParaRPr b="0" lang="en-US" sz="5400" spc="-1" strike="noStrike">
              <a:solidFill>
                <a:srgbClr val="000000"/>
              </a:solidFill>
              <a:latin typeface="Arial"/>
            </a:endParaRPr>
          </a:p>
        </p:txBody>
      </p:sp>
      <p:sp>
        <p:nvSpPr>
          <p:cNvPr id="78"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זכית</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בתו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נוסף!!!</a:t>
            </a:r>
            <a:endParaRPr b="0" lang="en-US" sz="5400" spc="-1" strike="noStrike">
              <a:solidFill>
                <a:srgbClr val="000000"/>
              </a:solidFill>
              <a:latin typeface="Arial"/>
            </a:endParaRPr>
          </a:p>
        </p:txBody>
      </p:sp>
      <p:sp>
        <p:nvSpPr>
          <p:cNvPr id="79"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חכה</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שתי</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תורות!!!</a:t>
            </a:r>
            <a:endParaRPr b="0" lang="en-US" sz="5400" spc="-1" strike="noStrike">
              <a:solidFill>
                <a:srgbClr val="000000"/>
              </a:solidFill>
              <a:latin typeface="Arial"/>
            </a:endParaRPr>
          </a:p>
        </p:txBody>
      </p:sp>
      <p:sp>
        <p:nvSpPr>
          <p:cNvPr id="80"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התקדם</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6</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צעדים!!!</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2"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3"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4"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5"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6"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2771640" y="547560"/>
            <a:ext cx="2592360" cy="2592360"/>
          </a:xfrm>
          <a:prstGeom prst="rect">
            <a:avLst/>
          </a:prstGeom>
          <a:ln w="0">
            <a:noFill/>
          </a:ln>
        </p:spPr>
      </p:pic>
      <p:pic>
        <p:nvPicPr>
          <p:cNvPr id="94" name="" descr=""/>
          <p:cNvPicPr/>
          <p:nvPr/>
        </p:nvPicPr>
        <p:blipFill>
          <a:blip r:embed="rId2"/>
          <a:stretch/>
        </p:blipFill>
        <p:spPr>
          <a:xfrm>
            <a:off x="179280" y="3645000"/>
            <a:ext cx="2592360" cy="2592360"/>
          </a:xfrm>
          <a:prstGeom prst="rect">
            <a:avLst/>
          </a:prstGeom>
          <a:ln w="0">
            <a:noFill/>
          </a:ln>
        </p:spPr>
      </p:pic>
      <p:pic>
        <p:nvPicPr>
          <p:cNvPr id="95" name="" descr=""/>
          <p:cNvPicPr/>
          <p:nvPr/>
        </p:nvPicPr>
        <p:blipFill>
          <a:blip r:embed="rId3"/>
          <a:stretch/>
        </p:blipFill>
        <p:spPr>
          <a:xfrm>
            <a:off x="5364000" y="3716280"/>
            <a:ext cx="2592720" cy="2592360"/>
          </a:xfrm>
          <a:prstGeom prst="rect">
            <a:avLst/>
          </a:prstGeom>
          <a:ln w="0">
            <a:noFill/>
          </a:ln>
        </p:spPr>
      </p:pic>
      <p:pic>
        <p:nvPicPr>
          <p:cNvPr id="96" name="" descr=""/>
          <p:cNvPicPr/>
          <p:nvPr/>
        </p:nvPicPr>
        <p:blipFill>
          <a:blip r:embed="rId4"/>
          <a:stretch/>
        </p:blipFill>
        <p:spPr>
          <a:xfrm>
            <a:off x="179280" y="620640"/>
            <a:ext cx="2592360" cy="2592360"/>
          </a:xfrm>
          <a:prstGeom prst="rect">
            <a:avLst/>
          </a:prstGeom>
          <a:ln w="0">
            <a:noFill/>
          </a:ln>
        </p:spPr>
      </p:pic>
      <p:pic>
        <p:nvPicPr>
          <p:cNvPr id="97" name="" descr=""/>
          <p:cNvPicPr/>
          <p:nvPr/>
        </p:nvPicPr>
        <p:blipFill>
          <a:blip r:embed="rId5"/>
          <a:stretch/>
        </p:blipFill>
        <p:spPr>
          <a:xfrm>
            <a:off x="2771640" y="3716280"/>
            <a:ext cx="2592360" cy="2592360"/>
          </a:xfrm>
          <a:prstGeom prst="rect">
            <a:avLst/>
          </a:prstGeom>
          <a:ln w="0">
            <a:noFill/>
          </a:ln>
        </p:spPr>
      </p:pic>
      <p:pic>
        <p:nvPicPr>
          <p:cNvPr id="98" name="" descr=""/>
          <p:cNvPicPr/>
          <p:nvPr/>
        </p:nvPicPr>
        <p:blipFill>
          <a:blip r:embed="rId6"/>
          <a:stretch/>
        </p:blipFill>
        <p:spPr>
          <a:xfrm>
            <a:off x="5364000" y="549360"/>
            <a:ext cx="2592720" cy="25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02:55:32Z</dcterms:created>
  <dc:creator>נעם חיים</dc:creator>
  <dc:description/>
  <dc:language>en-US</dc:language>
  <cp:lastModifiedBy>HNU3057</cp:lastModifiedBy>
  <dcterms:modified xsi:type="dcterms:W3CDTF">2009-03-09T13:17:42Z</dcterms:modified>
  <cp:revision>7</cp:revision>
  <dc:subject/>
  <dc:title>שקופית 1</dc:title>
</cp:coreProperties>
</file>