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9F4-ACEA-49C6-B6A2-2CC1806D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A8E-9597-47E7-B0E0-BA52E35F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560-1D48-4491-9B9E-91BD5BC7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7C5-E2ED-4D74-9979-51C1186C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9C5-3F2C-4026-A8D6-2B451F1E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C26-350B-45FC-970C-C6A3A279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64D-932A-4E4F-A6B5-9F6FE46E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504-FA63-4E19-B5CA-7275596C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F8A-AAED-4065-B2BA-E4A36E6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44C-E2AB-4168-9FC8-E6511B05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290-6F6D-486E-8BF3-7BBF4A5B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846-7CAF-4752-BCEB-D6E91EB7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1544-4F11-4615-A89D-33F1BECAA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ipa.co.il/ask/show/120744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2213" t="54929" r="27849" b="22439"/>
          <a:stretch/>
        </p:blipFill>
        <p:spPr>
          <a:xfrm>
            <a:off x="0" y="0"/>
            <a:ext cx="9144000" cy="708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ברכת החמ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72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בכל שנת חמה י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4+3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ימ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79280" y="2276640"/>
            <a:ext cx="896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אם רוצים לדע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כמה שבועות יש בשנת חמ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חלקים מספר הימים בשנה לימי השבו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5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700280"/>
            <a:ext cx="8964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תוצאה: 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ושארית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משפט הנכון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18900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משימה שני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5157720"/>
            <a:ext cx="535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א. בכל שנת חמה י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שבועות ועוד יום ורב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ב. בכל שנת חמה י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שבועות ועוד יומיים ורב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ג. בכל שנת חמה י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שבועות ועוד יום ורב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ד. בכל שנת חמה י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שבועות ועוד רבע יו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משימה שלישית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לפי זה יוצא שההפרש (בתוך ימי השבוע) בין שנת חמה אחת לחברתה,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הוא יום ורבע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ולכן השנה יכולה להתחיל ב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בוקר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צהרי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ערב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לי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בוקר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צהרי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ערב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לי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בוקר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צהרי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ערב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לי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בוקר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צהרי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ערב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לי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משימה רביעית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בכל שנה יש ארבעה תקופו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67280" y="1700280"/>
            <a:ext cx="4824360" cy="48243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61080" y="256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קופת ניס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447840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קופת תשר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437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קופת טב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5080" y="2492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קופת תמו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773360"/>
            <a:ext cx="3600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החודש הקרוב שבו תהיה ברכת החמה הוא חוד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. ניס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ב. תמו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ג. תשר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ד. טב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252720" y="691920"/>
            <a:ext cx="9607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משימה חמישית</a:t>
            </a:r>
            <a:br>
              <a:rPr sz="5400"/>
            </a:b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ברכת החמ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היא כאשר </a:t>
            </a:r>
            <a:br>
              <a:rPr sz="3600"/>
            </a:b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תקופת ניסן (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חילת שנה, שהרי ניסן "ראשון לחודשי שנה")</a:t>
            </a:r>
            <a:br>
              <a:rPr sz="3600"/>
            </a:b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מתחילה ביום ד' בשבוע (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שבו נבראה השמ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בשעה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בבוקר (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חילת היום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כמו בבריאת העול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63640" y="6308640"/>
            <a:ext cx="35593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הפגימה בשמש מסיבות הלכתיות, רא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קישו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70674" t="18512" r="18997" b="68711"/>
          <a:stretch/>
        </p:blipFill>
        <p:spPr>
          <a:xfrm>
            <a:off x="179280" y="3192480"/>
            <a:ext cx="3672000" cy="3405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47640" y="5229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3357720"/>
            <a:ext cx="4174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ז מברכים על השמ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. "שעשה את השמש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ב. "עושה מעשה בראשית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ג. "המוציא לחם מן הארץ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ד. "שברא עולם ומלואו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מתי תהיה ברכת חמ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ד' ניסן תשמ"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708360" y="1125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ט"ו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ה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ה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ז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Narkisim"/>
              </a:rPr>
              <a:t>מהי ברכת החמה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320" y="22856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Narkisi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773360"/>
            <a:ext cx="1800360" cy="865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התח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חץ על השמ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19440" y="2419200"/>
            <a:ext cx="4187880" cy="4438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ח אדר 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ט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ג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"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ג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ד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ד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ז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ז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ח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רוכים הבא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הוראות הפע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פניך מספר משימו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צע את המשימות לפי ההורא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מטרה: להגיע לשקופית הסיום בתוך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דק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חץ רק בכפתורים המתאימ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חיצה במקום שאינו מתאים תאלץ אותך להתחיל מהתח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116000" y="981000"/>
            <a:ext cx="1600200" cy="13716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50000">
                <a:srgbClr val="00ff00"/>
              </a:gs>
              <a:gs pos="100000">
                <a:srgbClr val="fff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חץ כא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התח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ח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א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ב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ב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"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טו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ו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ו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טז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ח אדר 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שגיאה בלחיצ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כמה פעמים צריך לומר לך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א ללחוץ מחוץ למסגרת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עליך להתחיל מהתחל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1447920" y="5105520"/>
            <a:ext cx="1600200" cy="1371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חץ כא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6"/>
          <a:srcRect l="57588" t="51976" r="32275" b="33273"/>
          <a:stretch/>
        </p:blipFill>
        <p:spPr>
          <a:xfrm>
            <a:off x="525600" y="350208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61128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6"/>
          <a:srcRect l="57588" t="51976" r="32275" b="33273"/>
          <a:stretch/>
        </p:blipFill>
        <p:spPr>
          <a:xfrm>
            <a:off x="525600" y="350208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1128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27"/>
          <a:srcRect l="57588" t="51976" r="32275" b="33273"/>
          <a:stretch/>
        </p:blipFill>
        <p:spPr>
          <a:xfrm>
            <a:off x="67327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68184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ג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6"/>
          <a:srcRect l="57588" t="51976" r="32275" b="33273"/>
          <a:stretch/>
        </p:blipFill>
        <p:spPr>
          <a:xfrm>
            <a:off x="525600" y="350208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61128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7"/>
          <a:srcRect l="57588" t="51976" r="32275" b="33273"/>
          <a:stretch/>
        </p:blipFill>
        <p:spPr>
          <a:xfrm>
            <a:off x="67327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68184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28"/>
          <a:srcRect l="57588" t="51976" r="32275" b="33273"/>
          <a:stretch/>
        </p:blipFill>
        <p:spPr>
          <a:xfrm>
            <a:off x="5710320" y="53020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5796000" y="55897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תקופת ניסן בשנת תשס"ט - ברכת חמ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"ד ניסן תשס"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1" name=""/>
          <p:cNvSpPr/>
          <p:nvPr/>
        </p:nvSpPr>
        <p:spPr>
          <a:xfrm>
            <a:off x="3635280" y="2781360"/>
            <a:ext cx="72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26"/>
          <a:srcRect l="57588" t="51976" r="32275" b="33273"/>
          <a:stretch/>
        </p:blipFill>
        <p:spPr>
          <a:xfrm>
            <a:off x="525600" y="350208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1128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27"/>
          <a:srcRect l="57588" t="51976" r="32275" b="33273"/>
          <a:stretch/>
        </p:blipFill>
        <p:spPr>
          <a:xfrm>
            <a:off x="67327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68184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28"/>
          <a:srcRect l="57588" t="51976" r="32275" b="33273"/>
          <a:stretch/>
        </p:blipFill>
        <p:spPr>
          <a:xfrm>
            <a:off x="5710320" y="53020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5796000" y="55897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348000" y="1125360"/>
            <a:ext cx="503280" cy="15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משימה שישית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ברכת חמה נאמרת ברוב עם.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מתפללים שחרית בהשכמה.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מברכים את הברכה עם הראות גלגל השמש,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ולא יאוחר משלוש שעות זמניות מהזריחה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84360" y="3716280"/>
            <a:ext cx="741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א. אפשר לברך כל היו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ב. אפשר לברך רק בבוקר מוקד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ג. אפשר לברך גם בלי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ד. אפשר לברך עד שלש שע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משימה שביעי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חרי שלש שעות מברכים בלי שם ומלכות, ויש פוסקים שמתירים לברך עם שם ומלכות עד חצות היום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מחלוקת היא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. אחרי שעת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. אחרי יומ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ג. אחרי חצ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ד. אחרי שלוש שע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משימה שמינית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בפעם הבאה, אי"ה, נזכה לברך את הברכה ביום רביעי כ"ג בניסן תשצ"ז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26920" y="3645000"/>
            <a:ext cx="6840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הפעם הבאה תהיה בעו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ש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ב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ש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ג. חצי ש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ד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ש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-3205080" y="27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624040" y="338760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מקוים שנהני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19360" y="1644480"/>
            <a:ext cx="757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</a:rPr>
              <a:t>כל הכבוד</a:t>
            </a:r>
            <a:br>
              <a:rPr sz="6000"/>
            </a:br>
            <a:r>
              <a:rPr b="0" lang="hi-IN" sz="6000" spc="-1" strike="noStrike">
                <a:solidFill>
                  <a:srgbClr val="000000"/>
                </a:solidFill>
                <a:latin typeface="Arial"/>
              </a:rPr>
              <a:t>סיימת את כל המשימו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שגיאה בלחיצ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מצטערים טעי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עליך להתחיל מהתחל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1447920" y="5105520"/>
            <a:ext cx="1600200" cy="1371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חץ כא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  <a:cs typeface="TapuzMF-Black"/>
              </a:rPr>
              <a:t>התחלת המשח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1905120" cy="2019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David"/>
              </a:rPr>
              <a:t>העולם נברא בששה ימ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7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ראשון - וַיִּקְרָא ... לָאוֹר יוֹם וְלַחֹשֶׁךְ קָרָא לָיְלָ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שני - יְהִי רָקִיעַ בְּתוֹךְ הַמָּיִ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שלישי - וְתֵרָאֶה הַיַּבָּשָׁה ...תּוֹצֵא הָאָרֶץ דֶּשֶׁא עֵשֶׂ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  <a:cs typeface="David"/>
              </a:rPr>
              <a:t>ביום הרביעי -  אֶת-שְׁנֵי הַמְּאֹרֹת הַגְּדֹלִ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חמישי - אֶת-הַתַּנִּינִם הַגְּדֹלִים וְאֵת כָּל-נֶפֶשׁ הַחַיָּ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שישי - נֶפֶשׁ חַיָּה לְמִינָה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משימה ראשונה:</a:t>
            </a:r>
            <a:br>
              <a:rPr sz="4400"/>
            </a:b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איזה יום ברא ה' את השמ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124080"/>
            <a:ext cx="3733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9999"/>
                </a:solidFill>
                <a:uFillTx/>
                <a:latin typeface="Times New Roman"/>
                <a:cs typeface="Times New Roman (Hebrew)"/>
                <a:hlinkClick r:id="rId2" action="ppaction://hlinksldjump"/>
              </a:rPr>
              <a:t>א. רביע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9999"/>
                </a:solidFill>
                <a:uFillTx/>
                <a:latin typeface="Times New Roman"/>
                <a:cs typeface="Times New Roman (Hebrew)"/>
                <a:hlinkClick r:id="rId3" action="ppaction://hlinksldjump"/>
              </a:rPr>
              <a:t>ב. חמיש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9999"/>
                </a:solidFill>
                <a:uFillTx/>
                <a:latin typeface="Times New Roman"/>
                <a:cs typeface="Times New Roman (Hebrew)"/>
                <a:hlinkClick r:id="rId4" action="ppaction://hlinksldjump"/>
              </a:rPr>
              <a:t>ג. שליש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9999"/>
                </a:solidFill>
                <a:uFillTx/>
                <a:latin typeface="Times New Roman"/>
                <a:cs typeface="Times New Roman (Hebrew)"/>
                <a:hlinkClick r:id="rId5" action="ppaction://hlinksldjump"/>
              </a:rPr>
              <a:t>ד. שנ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86120" y="0"/>
            <a:ext cx="5394240" cy="3641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30240" y="-27000"/>
            <a:ext cx="3810240" cy="688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708360" y="3645000"/>
            <a:ext cx="5435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9:27:13Z</dcterms:created>
  <dc:creator>user</dc:creator>
  <dc:description/>
  <dc:language>en-US</dc:language>
  <cp:lastModifiedBy>hnu3057</cp:lastModifiedBy>
  <dcterms:modified xsi:type="dcterms:W3CDTF">2009-03-09T14:12:34Z</dcterms:modified>
  <cp:revision>10</cp:revision>
  <dc:subject/>
  <dc:title>ברכת החמה</dc:title>
</cp:coreProperties>
</file>