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7425-28B9-4638-87F5-667A52CE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2F80-2947-4891-ADC0-A5E0D6A0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6378-11DC-4C77-A927-EEC5A19E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5124-FC3B-4A9C-9A5E-6871E93C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7262-819D-4668-A19C-8D613F90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A181-0F62-4F23-A468-7F9A3D97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6444-0701-4CC3-BF05-4CAF14E2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EA36-8BA1-4F6A-ADE5-33A4DA88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4EB9-9427-46A9-AA00-0E91509F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4F76-7495-4B29-80A5-76F06992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855C-5457-49AD-BB77-B60ED486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CC82-B854-4E48-B0DB-C0007D24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EF48-4D76-42CB-8B89-9698BC55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DF1A-0607-4A02-BC34-B9E34B7B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4D71-1FC6-47E5-9CEB-EAC521F7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7D22-3594-4412-A71C-E30F1E58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BD80-722D-4903-8CA4-A3445BAA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DB22-991A-4AE7-A2AA-67A4E7F1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D3FB-3B64-425A-8955-DAB0AABB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8845-F33E-4C98-B34C-C1251F9B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CFED-9356-4141-96CB-EECEE882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F45C-BBD6-4D76-9F2C-E671A3F6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B28E-FCE6-4BDA-8CE0-B2F1B938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BCC6-CF2C-47CD-BB9A-D7D83A5E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8EA0-7023-43E6-B3C8-F369C880A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9D8E-0FE4-4A92-A208-72D2452C4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מדרש תמונ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על ברכת החמ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תבונן בתמונה וענה על השאלו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יכן נמצא האדם המברך? (במקום גבוה/נמוך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אם הוא מתפלל אל השמ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יכן רמוז בציור שהאדם סיים תפילת שחרית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אם הילד יודע את נוסח הברכה בעל פה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מה מועילה השמש לדברים שבציור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אם השמש מצוירת לפי ההלכה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3:09:28Z</dcterms:created>
  <dc:creator>hnu3057</dc:creator>
  <dc:description/>
  <dc:language>en-US</dc:language>
  <cp:lastModifiedBy>hnu3057</cp:lastModifiedBy>
  <dcterms:modified xsi:type="dcterms:W3CDTF">2009-03-09T13:09:59Z</dcterms:modified>
  <cp:revision>2</cp:revision>
  <dc:subject/>
  <dc:title>מדרש תמונה</dc:title>
</cp:coreProperties>
</file>